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6.wmf" ContentType="image/x-wmf"/>
  <Override PartName="/ppt/media/image22.wmf" ContentType="image/x-wmf"/>
  <Override PartName="/ppt/media/image19.png" ContentType="image/png"/>
  <Override PartName="/ppt/media/image20.jpeg" ContentType="image/jpeg"/>
  <Override PartName="/ppt/media/image21.png" ContentType="image/png"/>
  <Override PartName="/ppt/media/image6.jpeg" ContentType="image/jpeg"/>
  <Override PartName="/ppt/media/image5.wmf" ContentType="image/x-wmf"/>
  <Override PartName="/ppt/media/image7.wmf" ContentType="image/x-wmf"/>
  <Override PartName="/ppt/media/image12.wmf" ContentType="image/x-wmf"/>
  <Override PartName="/ppt/media/image9.jpeg" ContentType="image/jpeg"/>
  <Override PartName="/ppt/media/image11.wmf" ContentType="image/x-wmf"/>
  <Override PartName="/ppt/media/image17.jpeg" ContentType="image/jpeg"/>
  <Override PartName="/ppt/media/image13.wmf" ContentType="image/x-wmf"/>
  <Override PartName="/ppt/media/image8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1.jpeg" ContentType="image/jpeg"/>
  <Override PartName="/ppt/media/image15.wmf" ContentType="image/x-wmf"/>
  <Override PartName="/ppt/media/image33.png" ContentType="image/png"/>
  <Override PartName="/ppt/media/image16.wmf" ContentType="image/x-wmf"/>
  <Override PartName="/ppt/media/image34.png" ContentType="image/png"/>
  <Override PartName="/ppt/media/image35.png" ContentType="image/png"/>
  <Override PartName="/ppt/media/image28.wmf" ContentType="image/x-wmf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media/image10.jpeg" ContentType="image/jpeg"/>
  <Override PartName="/ppt/media/image14.png" ContentType="image/png"/>
  <Override PartName="/ppt/media/image18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265AC-1961-4FBA-A64F-DF01BE7B8F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4D9A7-5D12-459A-895A-1A33158119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1A51E-559F-482C-9399-734003BFC1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8FC4E-5575-4155-A736-FB52296B20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4D62C-46F3-4F7B-8342-A32BCA4405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B758D-9FDC-4C8B-92FA-BC3913DB87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95496-3EBC-4EF3-A303-5344AD96DB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2A7F4-680A-4BD7-9253-AF0C95EF04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05100-881A-4BD7-AEFA-8421B1E09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189B5-46A5-47EA-9EC4-3FA191BBC3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F57C2-0BE2-480C-BDF5-5F0DE69476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F8E16-3DF9-4BFF-B77E-10D98A0AFE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85AB1-18DD-42FB-BD05-A12F4D763F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84A25-D9F7-475C-8FB1-4D3256874B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85B82-09EE-4BE0-A4C2-12439E33AC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62508-0068-4C99-BCF6-3B08C1F35B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461B4-CBDA-41CA-9F3C-E73575FDBC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1F47B-723F-435E-89DB-30A223619D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48525-AFCA-4169-B23D-5E7E7B5AD8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DC1F9-B632-41CD-ACBC-2C233E4CC6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8B6C9-3EE8-4DD1-A96B-353F465BE7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0C19E-B6FC-4B80-96AD-CC3B79890F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3F11B-E7DD-4F4C-859C-78628A5349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FE670-AFD5-411C-8335-E1BFF26C0F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8664-7888-4C40-9688-4EE45A3C763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D298-90FE-43B3-8A00-E1A2072C046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43AD-C59B-4037-A880-3C7AB1E3B9A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E9FE-8819-479A-A7E1-DFE9A5580F8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5DD2-C008-48FB-8EBB-1B036A7FF32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9187-DB16-434F-9B0E-88799724FF6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1721-6FAD-46FC-AB55-400E39649C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5522A-E63D-48D9-AD3A-95846E401F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F0D8-E4F9-423F-9807-093B4316BB5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BBF2-FF21-4239-8353-830714C23EA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B5BC-BB85-4BDA-8FAB-132BD608B05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BE6A-AF8D-4205-8DA5-5D5654F42EC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2103-A6A5-4EC8-99DE-8A5D304930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91777-116A-4102-8F5C-7BEEFEDF65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5CDC5-D3C1-40E8-A934-A0DDFB90E2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4BAA9-370A-4FAC-A322-C4871FDCEA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CB773-574F-4FBC-8849-A8DCB20507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5C3D9-E32D-42D4-B552-41EEFC5A31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67B21-8716-4EB5-90B7-E9FDAD05F2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BFF59-C30E-4A98-91D0-28E6C2CF38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38B73-7D26-4A93-9E9A-F53B5333FF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FFEF6-2DD6-456D-A3C2-81B1EA98F1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Purchasing and Invento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B142-A803-498E-9E63-07B8988BE96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How to Implement 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2743200"/>
            <a:ext cx="312408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8120" y="3048120"/>
            <a:ext cx="31240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129528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477120" y="2133720"/>
            <a:ext cx="2209680" cy="12952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324480" y="4191120"/>
            <a:ext cx="236232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33920" y="5029200"/>
            <a:ext cx="236196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4267080"/>
            <a:ext cx="2209680" cy="15242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43000" y="2057400"/>
            <a:ext cx="2133720" cy="14479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76720" y="1295280"/>
            <a:ext cx="2743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29400" y="2286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lyz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4419720"/>
            <a:ext cx="2514600" cy="15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nimum stock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5257800"/>
            <a:ext cx="2514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elop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s and l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4343400"/>
            <a:ext cx="274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tem for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ing, s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2057400"/>
            <a:ext cx="2666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intain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769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172200" y="30481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4343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769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124080" y="43434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28954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3EF6D-14BB-47B7-A878-52ED61723DB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alyze N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analysis of supply and reagent needs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sting all tests in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ing all supplies needed for each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available information to estimate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2EAAF-5FB5-4E5D-96C3-8B8DFE7D528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nalysis of Needs: Information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42880" y="1352160"/>
            <a:ext cx="8217000" cy="4578480"/>
            <a:chOff x="542880" y="1352160"/>
            <a:chExt cx="8217000" cy="4578480"/>
          </a:xfrm>
        </p:grpSpPr>
        <p:sp>
          <p:nvSpPr>
            <p:cNvPr id="279" name="_s198691"/>
            <p:cNvSpPr/>
            <p:nvPr/>
          </p:nvSpPr>
          <p:spPr>
            <a:xfrm flipH="1" flipV="1">
              <a:off x="2615400" y="3436920"/>
              <a:ext cx="1023120" cy="19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98685"/>
            <p:cNvSpPr/>
            <p:nvPr/>
          </p:nvSpPr>
          <p:spPr>
            <a:xfrm>
              <a:off x="542880" y="2630880"/>
              <a:ext cx="213120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orage spac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br>
                <a:rPr sz="16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198690"/>
            <p:cNvSpPr/>
            <p:nvPr/>
          </p:nvSpPr>
          <p:spPr>
            <a:xfrm flipH="1">
              <a:off x="3392640" y="4312800"/>
              <a:ext cx="630360" cy="504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198672"/>
            <p:cNvSpPr/>
            <p:nvPr/>
          </p:nvSpPr>
          <p:spPr>
            <a:xfrm>
              <a:off x="1705320" y="4698360"/>
              <a:ext cx="2131200" cy="1232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der lead time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livery time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198689"/>
            <p:cNvSpPr/>
            <p:nvPr/>
          </p:nvSpPr>
          <p:spPr>
            <a:xfrm>
              <a:off x="5271840" y="4312800"/>
              <a:ext cx="634680" cy="5022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98670"/>
            <p:cNvSpPr/>
            <p:nvPr/>
          </p:nvSpPr>
          <p:spPr>
            <a:xfrm>
              <a:off x="5465520" y="4698360"/>
              <a:ext cx="2131200" cy="1232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iority Level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98688"/>
            <p:cNvSpPr/>
            <p:nvPr/>
          </p:nvSpPr>
          <p:spPr>
            <a:xfrm flipV="1">
              <a:off x="5657040" y="3434400"/>
              <a:ext cx="1023120" cy="192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98667"/>
            <p:cNvSpPr/>
            <p:nvPr/>
          </p:nvSpPr>
          <p:spPr>
            <a:xfrm>
              <a:off x="6628680" y="2630880"/>
              <a:ext cx="213120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sage/month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quantification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98687"/>
            <p:cNvSpPr/>
            <p:nvPr/>
          </p:nvSpPr>
          <p:spPr>
            <a:xfrm flipV="1">
              <a:off x="4647600" y="2581920"/>
              <a:ext cx="0" cy="621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98665"/>
            <p:cNvSpPr/>
            <p:nvPr/>
          </p:nvSpPr>
          <p:spPr>
            <a:xfrm>
              <a:off x="3583800" y="1352160"/>
              <a:ext cx="213120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nit of count</a:t>
              </a:r>
              <a:br>
                <a:rPr sz="2100"/>
              </a:b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98662"/>
            <p:cNvSpPr/>
            <p:nvPr/>
          </p:nvSpPr>
          <p:spPr>
            <a:xfrm>
              <a:off x="3583800" y="3203640"/>
              <a:ext cx="213120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br>
                <a:rPr sz="3000"/>
              </a:b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948A1-32BE-4546-881F-2F2EC910869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04920" y="533520"/>
            <a:ext cx="60195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Quantif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1905120"/>
            <a:ext cx="7848720" cy="336996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Quantificatio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is a process for calculating how much is required of any particular item for a given period of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FE7BB-1143-4278-9590-62405CA8C41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Wh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 part of annual health car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implementing a new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preparation for a potential or newly identified epid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F48B9-C939-4E4F-B10A-69546B76E26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H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umption-based meth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rbidity-based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C3490-EDB9-4920-B1FB-374789B13FB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Consumption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6934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sed on the actual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supplies actuall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stage–expired or spoiled sup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lies out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ck for mo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an 15 d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uring any tim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4191120" y="3581280"/>
          <a:ext cx="4267080" cy="28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581280"/>
                    <a:ext cx="4267080" cy="286092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1A38A-03D2-4102-9765-884172E1DB2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Morbidity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d on the actual number of episode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pulatio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ease inc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cy of morbidit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eatment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486400" y="2209680"/>
          <a:ext cx="342900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209680"/>
                    <a:ext cx="3429000" cy="403884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42BE2-5043-439D-AE26-68E631D1EB0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ventory Control: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t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s or fail acceptance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laced in service or dis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useful to kee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in stock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105520" y="4038480"/>
            <a:ext cx="2361960" cy="23814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 rot="2522400">
            <a:off x="6997320" y="5011560"/>
            <a:ext cx="1600200" cy="14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AB75B-1DB4-430E-81FD-E0EC519154D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Object 2"/>
          <p:cNvGraphicFramePr/>
          <p:nvPr/>
        </p:nvGraphicFramePr>
        <p:xfrm>
          <a:off x="4572000" y="1371600"/>
          <a:ext cx="45720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371600"/>
                    <a:ext cx="4572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tock Log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ame and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rece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expi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mum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ock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ther inform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helf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5029200" y="3429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993E4-8107-41A7-A695-50263AF100F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steps required to implement an inventory control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me factors to consider in procurement of suppl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monitoring plan for the inventor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documentation related to purchasing and inven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2F933-8AE4-47B3-9F8F-9B330124967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spect new orders at time of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y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date each item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expiration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 new shipment behi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isting sh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 or update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791320" y="3657600"/>
            <a:ext cx="2381040" cy="21337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6526080" y="1295280"/>
            <a:ext cx="2130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F2103-75C9-43BB-9919-D75429E961D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rage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tore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ganiz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k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ll-ventil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direct sunl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, sturdy shelv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ems within r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029200" y="121932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029200" y="3657600"/>
            <a:ext cx="3689280" cy="26766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6019920" y="3962520"/>
            <a:ext cx="213336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6019920" y="1523880"/>
            <a:ext cx="1844640" cy="19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9F8B4-70BB-409A-8739-0FDE56C317E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helv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685800" y="5334120"/>
            <a:ext cx="2971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ollow 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4343400"/>
            <a:ext cx="213372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58944-CDCA-4DE7-A336-46DD1D3377E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helf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voids “losing” a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ve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ystemizes storag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umber cold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r 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d freezer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abel sh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5562720" y="1523880"/>
            <a:ext cx="3429000" cy="28893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rcRect l="0" t="0" r="0" b="25408"/>
          <a:stretch/>
        </p:blipFill>
        <p:spPr>
          <a:xfrm>
            <a:off x="3429000" y="4267080"/>
            <a:ext cx="3703680" cy="19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D1762-8B6F-4FA2-9160-AC56812583C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clearly visible dating lab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op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exp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4495680" y="365760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14600" y="35812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76920" y="342900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162920" y="3352680"/>
            <a:ext cx="1600200" cy="381240"/>
          </a:xfrm>
          <a:prstGeom prst="leftArrow">
            <a:avLst>
              <a:gd name="adj1" fmla="val 50000"/>
              <a:gd name="adj2" fmla="val 1049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AF6B9-E878-42EC-ADEE-17C8DC32188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tinuous Monitoring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048120" y="1371600"/>
            <a:ext cx="304776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943600" y="3276720"/>
            <a:ext cx="2743200" cy="1447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4876920"/>
            <a:ext cx="2666880" cy="15238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38080" y="3200400"/>
            <a:ext cx="2210040" cy="15238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743200" y="1371600"/>
            <a:ext cx="3200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48120" y="52578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uct weekly physical cou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3429000"/>
            <a:ext cx="2057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791320" y="3352680"/>
            <a:ext cx="28191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ain 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66880" y="2438280"/>
            <a:ext cx="3733920" cy="2895840"/>
          </a:xfrm>
          <a:custGeom>
            <a:avLst/>
            <a:gdLst>
              <a:gd name="textAreaLeft" fmla="*/ 933480 w 3733920"/>
              <a:gd name="textAreaRight" fmla="*/ 2800440 w 3733920"/>
              <a:gd name="textAreaTop" fmla="*/ 723960 h 2895840"/>
              <a:gd name="textAreaBottom" fmla="*/ 2171880 h 289584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048120" y="3352680"/>
            <a:ext cx="243828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ventor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BBDDF-2F1A-4140-BA84-F493FDBDAA4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Computerized Stock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ct current state of stock, product 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expiration 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tistics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planning purchase 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possibl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kes inventory tasks eas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Drawbac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on-site computer i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quires trained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638680" y="3505320"/>
            <a:ext cx="2895840" cy="263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F3BCF-8A2E-4E7D-B2EA-277FC43E1BE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ell-managed laboratory will have a system for inventory maintenance and purcha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stem will require planning and monitoring: analyzing needs, developing forms and procedures, and maintaining an inventory. The laboratory will maintain an inventory system for all reagents and supplies used in the labora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54EA6-9E31-4E62-A154-F4060C1330E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ing inventory results in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d laboratory efficiency and effec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ance that patient or clinical needs are m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ducts available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75027-3A49-42A3-8ECB-44DBF40C2C4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866920" y="762120"/>
            <a:ext cx="30481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85800" y="762120"/>
            <a:ext cx="5181480" cy="5409720"/>
            <a:chOff x="685800" y="762120"/>
            <a:chExt cx="5181480" cy="5409720"/>
          </a:xfrm>
        </p:grpSpPr>
        <p:sp>
          <p:nvSpPr>
            <p:cNvPr id="363" name="AutoShape 4"/>
            <p:cNvSpPr/>
            <p:nvPr/>
          </p:nvSpPr>
          <p:spPr>
            <a:xfrm>
              <a:off x="68580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9"/>
            <p:cNvSpPr/>
            <p:nvPr/>
          </p:nvSpPr>
          <p:spPr>
            <a:xfrm>
              <a:off x="293040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0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1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2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3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6"/>
            <p:cNvSpPr/>
            <p:nvPr/>
          </p:nvSpPr>
          <p:spPr>
            <a:xfrm>
              <a:off x="156528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2"/>
            <p:cNvSpPr/>
            <p:nvPr/>
          </p:nvSpPr>
          <p:spPr>
            <a:xfrm>
              <a:off x="155412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24"/>
            <p:cNvSpPr/>
            <p:nvPr/>
          </p:nvSpPr>
          <p:spPr>
            <a:xfrm flipH="1" flipV="1">
              <a:off x="333972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25"/>
            <p:cNvSpPr/>
            <p:nvPr/>
          </p:nvSpPr>
          <p:spPr>
            <a:xfrm flipV="1">
              <a:off x="307800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27"/>
            <p:cNvSpPr/>
            <p:nvPr/>
          </p:nvSpPr>
          <p:spPr>
            <a:xfrm>
              <a:off x="487656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27"/>
            <p:cNvSpPr/>
            <p:nvPr/>
          </p:nvSpPr>
          <p:spPr>
            <a:xfrm>
              <a:off x="327636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>
              <a:off x="160020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27"/>
            <p:cNvSpPr/>
            <p:nvPr/>
          </p:nvSpPr>
          <p:spPr>
            <a:xfrm flipH="1">
              <a:off x="129492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65"/>
            <p:cNvGrpSpPr/>
            <p:nvPr/>
          </p:nvGrpSpPr>
          <p:grpSpPr>
            <a:xfrm>
              <a:off x="990360" y="854640"/>
              <a:ext cx="1261800" cy="1189800"/>
              <a:chOff x="990360" y="854640"/>
              <a:chExt cx="1261800" cy="1189800"/>
            </a:xfrm>
          </p:grpSpPr>
          <p:grpSp>
            <p:nvGrpSpPr>
              <p:cNvPr id="378" name="Group 66"/>
              <p:cNvGrpSpPr/>
              <p:nvPr/>
            </p:nvGrpSpPr>
            <p:grpSpPr>
              <a:xfrm>
                <a:off x="990360" y="854640"/>
                <a:ext cx="1239120" cy="1189800"/>
                <a:chOff x="990360" y="854640"/>
                <a:chExt cx="1239120" cy="1189800"/>
              </a:xfrm>
            </p:grpSpPr>
            <p:grpSp>
              <p:nvGrpSpPr>
                <p:cNvPr id="379" name="Group 67"/>
                <p:cNvGrpSpPr/>
                <p:nvPr/>
              </p:nvGrpSpPr>
              <p:grpSpPr>
                <a:xfrm>
                  <a:off x="1041840" y="854640"/>
                  <a:ext cx="1152360" cy="1189800"/>
                  <a:chOff x="1041840" y="854640"/>
                  <a:chExt cx="1152360" cy="1189800"/>
                </a:xfrm>
              </p:grpSpPr>
              <p:sp>
                <p:nvSpPr>
                  <p:cNvPr id="380" name="Freeform 68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Freeform 69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2" name="Text Box 70"/>
                <p:cNvSpPr/>
                <p:nvPr/>
              </p:nvSpPr>
              <p:spPr>
                <a:xfrm>
                  <a:off x="99036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" name="Text Box 71"/>
              <p:cNvSpPr/>
              <p:nvPr/>
            </p:nvSpPr>
            <p:spPr>
              <a:xfrm>
                <a:off x="101304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72"/>
            <p:cNvGrpSpPr/>
            <p:nvPr/>
          </p:nvGrpSpPr>
          <p:grpSpPr>
            <a:xfrm>
              <a:off x="2646360" y="854640"/>
              <a:ext cx="1239840" cy="1189800"/>
              <a:chOff x="2646360" y="854640"/>
              <a:chExt cx="1239840" cy="1189800"/>
            </a:xfrm>
          </p:grpSpPr>
          <p:sp>
            <p:nvSpPr>
              <p:cNvPr id="385" name="Freeform 73"/>
              <p:cNvSpPr/>
              <p:nvPr/>
            </p:nvSpPr>
            <p:spPr>
              <a:xfrm>
                <a:off x="268704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Text Box 74"/>
              <p:cNvSpPr/>
              <p:nvPr/>
            </p:nvSpPr>
            <p:spPr>
              <a:xfrm>
                <a:off x="264636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75"/>
            <p:cNvGrpSpPr/>
            <p:nvPr/>
          </p:nvGrpSpPr>
          <p:grpSpPr>
            <a:xfrm>
              <a:off x="4246560" y="854640"/>
              <a:ext cx="1239840" cy="1189800"/>
              <a:chOff x="4246560" y="854640"/>
              <a:chExt cx="1239840" cy="1189800"/>
            </a:xfrm>
          </p:grpSpPr>
          <p:grpSp>
            <p:nvGrpSpPr>
              <p:cNvPr id="388" name="Group 76"/>
              <p:cNvGrpSpPr/>
              <p:nvPr/>
            </p:nvGrpSpPr>
            <p:grpSpPr>
              <a:xfrm>
                <a:off x="4291920" y="854640"/>
                <a:ext cx="1153080" cy="1189800"/>
                <a:chOff x="4291920" y="854640"/>
                <a:chExt cx="1153080" cy="1189800"/>
              </a:xfrm>
            </p:grpSpPr>
            <p:sp>
              <p:nvSpPr>
                <p:cNvPr id="389" name="Freeform 77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78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1" name="Text Box 79"/>
              <p:cNvSpPr/>
              <p:nvPr/>
            </p:nvSpPr>
            <p:spPr>
              <a:xfrm>
                <a:off x="424656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Line 27"/>
            <p:cNvSpPr/>
            <p:nvPr/>
          </p:nvSpPr>
          <p:spPr>
            <a:xfrm flipH="1">
              <a:off x="137124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990360" y="2194200"/>
              <a:ext cx="1241280" cy="1189440"/>
              <a:chOff x="990360" y="2194200"/>
              <a:chExt cx="1241280" cy="1189440"/>
            </a:xfrm>
          </p:grpSpPr>
          <p:sp>
            <p:nvSpPr>
              <p:cNvPr id="394" name="Freeform 46"/>
              <p:cNvSpPr/>
              <p:nvPr/>
            </p:nvSpPr>
            <p:spPr>
              <a:xfrm>
                <a:off x="99504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 Box 47"/>
              <p:cNvSpPr/>
              <p:nvPr/>
            </p:nvSpPr>
            <p:spPr>
              <a:xfrm>
                <a:off x="99036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Freeform 31"/>
            <p:cNvSpPr/>
            <p:nvPr/>
          </p:nvSpPr>
          <p:spPr>
            <a:xfrm>
              <a:off x="269532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3"/>
            <p:cNvSpPr/>
            <p:nvPr/>
          </p:nvSpPr>
          <p:spPr>
            <a:xfrm>
              <a:off x="273528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4190760" y="2212200"/>
              <a:ext cx="1336680" cy="1189440"/>
              <a:chOff x="4190760" y="2212200"/>
              <a:chExt cx="1336680" cy="1189440"/>
            </a:xfrm>
          </p:grpSpPr>
          <p:sp>
            <p:nvSpPr>
              <p:cNvPr id="399" name="Freeform 48"/>
              <p:cNvSpPr/>
              <p:nvPr/>
            </p:nvSpPr>
            <p:spPr>
              <a:xfrm>
                <a:off x="426708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Text Box 55"/>
              <p:cNvSpPr/>
              <p:nvPr/>
            </p:nvSpPr>
            <p:spPr>
              <a:xfrm>
                <a:off x="419076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Line 27"/>
            <p:cNvSpPr/>
            <p:nvPr/>
          </p:nvSpPr>
          <p:spPr>
            <a:xfrm flipH="1">
              <a:off x="129492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990360" y="3553200"/>
              <a:ext cx="1239840" cy="1190880"/>
              <a:chOff x="990360" y="3553200"/>
              <a:chExt cx="1239840" cy="1190880"/>
            </a:xfrm>
          </p:grpSpPr>
          <p:sp>
            <p:nvSpPr>
              <p:cNvPr id="403" name="Freeform 81"/>
              <p:cNvSpPr/>
              <p:nvPr/>
            </p:nvSpPr>
            <p:spPr>
              <a:xfrm>
                <a:off x="102240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Text Box 82"/>
              <p:cNvSpPr/>
              <p:nvPr/>
            </p:nvSpPr>
            <p:spPr>
              <a:xfrm>
                <a:off x="99036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2646360" y="3553200"/>
              <a:ext cx="1239840" cy="1190880"/>
              <a:chOff x="2646360" y="3553200"/>
              <a:chExt cx="1239840" cy="1190880"/>
            </a:xfrm>
          </p:grpSpPr>
          <p:sp>
            <p:nvSpPr>
              <p:cNvPr id="406" name="Freeform 30"/>
              <p:cNvSpPr/>
              <p:nvPr/>
            </p:nvSpPr>
            <p:spPr>
              <a:xfrm>
                <a:off x="267336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4"/>
              <p:cNvSpPr/>
              <p:nvPr/>
            </p:nvSpPr>
            <p:spPr>
              <a:xfrm>
                <a:off x="264636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Freeform 50"/>
            <p:cNvSpPr/>
            <p:nvPr/>
          </p:nvSpPr>
          <p:spPr>
            <a:xfrm>
              <a:off x="426708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51"/>
            <p:cNvSpPr/>
            <p:nvPr/>
          </p:nvSpPr>
          <p:spPr>
            <a:xfrm>
              <a:off x="424656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 flipH="1">
              <a:off x="137124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914400" y="4902120"/>
              <a:ext cx="1420560" cy="1189440"/>
              <a:chOff x="914400" y="4902120"/>
              <a:chExt cx="1420560" cy="1189440"/>
            </a:xfrm>
          </p:grpSpPr>
          <p:sp>
            <p:nvSpPr>
              <p:cNvPr id="412" name="Freeform 57"/>
              <p:cNvSpPr/>
              <p:nvPr/>
            </p:nvSpPr>
            <p:spPr>
              <a:xfrm>
                <a:off x="106344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58"/>
              <p:cNvSpPr/>
              <p:nvPr/>
            </p:nvSpPr>
            <p:spPr>
              <a:xfrm>
                <a:off x="91440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2646360" y="4834080"/>
              <a:ext cx="1239840" cy="1189800"/>
              <a:chOff x="2646360" y="4834080"/>
              <a:chExt cx="1239840" cy="1189800"/>
            </a:xfrm>
          </p:grpSpPr>
          <p:sp>
            <p:nvSpPr>
              <p:cNvPr id="415" name="Freeform 34"/>
              <p:cNvSpPr/>
              <p:nvPr/>
            </p:nvSpPr>
            <p:spPr>
              <a:xfrm>
                <a:off x="269532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61"/>
              <p:cNvSpPr/>
              <p:nvPr/>
            </p:nvSpPr>
            <p:spPr>
              <a:xfrm>
                <a:off x="264636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4267080" y="4902120"/>
              <a:ext cx="1239840" cy="1189440"/>
              <a:chOff x="4267080" y="4902120"/>
              <a:chExt cx="1239840" cy="1189440"/>
            </a:xfrm>
          </p:grpSpPr>
          <p:sp>
            <p:nvSpPr>
              <p:cNvPr id="418" name="Freeform 63"/>
              <p:cNvSpPr/>
              <p:nvPr/>
            </p:nvSpPr>
            <p:spPr>
              <a:xfrm>
                <a:off x="428616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64"/>
              <p:cNvSpPr/>
              <p:nvPr/>
            </p:nvSpPr>
            <p:spPr>
              <a:xfrm>
                <a:off x="426708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1EB2D-252F-478C-8348-F2DFDD077FC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r laboratory is asked to gear up for a potential flu epidemic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urchasing and inventory factors do you need to consider in planning f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proc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roblems might you encounter in planning and implement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9FA0A-5995-4B05-89C0-7BAF5946C20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5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50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51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2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7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60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61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6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71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5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8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4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7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90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955C0-9B9E-43B5-864A-4BC9C5E434D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09480"/>
            <a:ext cx="7696080" cy="1828800"/>
          </a:xfrm>
          <a:prstGeom prst="flowChartAlternateProcess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Benefits of an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Inventory Managemen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67280" y="3048120"/>
            <a:ext cx="3048120" cy="26668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3352680"/>
            <a:ext cx="24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lies and reagents always 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3200400"/>
            <a:ext cx="2666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ize wastag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y within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400800" y="4343400"/>
            <a:ext cx="2152800" cy="13809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200400" y="3200400"/>
            <a:ext cx="2895480" cy="297180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678240 h 2971800"/>
              <a:gd name="textAreaBottom" fmla="*/ 2293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05320" y="4038480"/>
            <a:ext cx="2133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main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C6723-FF9B-4396-B027-27A2202EC9B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Inventory Management 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alance between stock availabilit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d expiration dates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ife-span of laborator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agents va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IA reagents: 3 to 8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I kits: 4 to 1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sera: 1 to 4 ye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biotic disks: 2 to 3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ady-to-use culture media: 1 to 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hydrated culture media: 3 to 5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3886200" cy="32734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257800" y="3124080"/>
            <a:ext cx="8380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-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91520" y="2895480"/>
            <a:ext cx="914400" cy="916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iry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6A55E-A008-4E09-85E8-E049AE75CA1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Components for Purchasing and Inven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2362320"/>
            <a:ext cx="175248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Ha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162920" y="3809880"/>
            <a:ext cx="1828800" cy="1752840"/>
          </a:xfrm>
          <a:prstGeom prst="rect">
            <a:avLst/>
          </a:prstGeom>
          <a:solidFill>
            <a:srgbClr val="00007d"/>
          </a:solidFill>
          <a:ln w="57240">
            <a:solidFill>
              <a:srgbClr val="a1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og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iry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otate st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4572000"/>
            <a:ext cx="2057400" cy="1143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Labora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62720" y="4267080"/>
            <a:ext cx="1066680" cy="1295640"/>
          </a:xfrm>
          <a:prstGeom prst="rect">
            <a:avLst/>
          </a:prstGeom>
          <a:solidFill>
            <a:srgbClr val="a17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5105520"/>
            <a:ext cx="1295280" cy="9144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80880" y="1828800"/>
            <a:ext cx="3504600" cy="2458080"/>
            <a:chOff x="380880" y="1828800"/>
            <a:chExt cx="3504600" cy="2458080"/>
          </a:xfrm>
        </p:grpSpPr>
        <p:cxnSp>
          <p:nvCxnSpPr>
            <p:cNvPr id="216" name="_s180244"/>
            <p:cNvCxnSpPr>
              <a:stCxn id="217" idx="1"/>
              <a:endCxn id="218" idx="2"/>
            </p:cNvCxnSpPr>
            <p:nvPr/>
          </p:nvCxnSpPr>
          <p:spPr>
            <a:xfrm rot="10800000">
              <a:off x="21326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_s180243"/>
            <p:cNvCxnSpPr>
              <a:stCxn id="220" idx="3"/>
              <a:endCxn id="218" idx="2"/>
            </p:cNvCxnSpPr>
            <p:nvPr/>
          </p:nvCxnSpPr>
          <p:spPr>
            <a:xfrm flipV="1">
              <a:off x="18824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8" name="_s180239"/>
            <p:cNvSpPr/>
            <p:nvPr/>
          </p:nvSpPr>
          <p:spPr>
            <a:xfrm>
              <a:off x="1382040" y="182880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endor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lific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80240"/>
            <p:cNvSpPr/>
            <p:nvPr/>
          </p:nvSpPr>
          <p:spPr>
            <a:xfrm>
              <a:off x="38088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urchas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tra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80241"/>
            <p:cNvSpPr/>
            <p:nvPr/>
          </p:nvSpPr>
          <p:spPr>
            <a:xfrm>
              <a:off x="238356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5486400" y="5715000"/>
            <a:ext cx="1676520" cy="762120"/>
          </a:xfrm>
          <a:prstGeom prst="octagon">
            <a:avLst>
              <a:gd name="adj" fmla="val 2928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Post use</a:t>
            </a:r>
            <a:br>
              <a:rPr sz="1800"/>
            </a:b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419720" y="3733920"/>
            <a:ext cx="60948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828440" y="4952880"/>
            <a:ext cx="6094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42670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8580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162920" y="5562720"/>
            <a:ext cx="38088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72200" y="548640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077320" y="33526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629400" y="3352680"/>
            <a:ext cx="4572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72200" y="24382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10280" y="1752480"/>
            <a:ext cx="1981440" cy="1683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ssess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5638680" y="4114800"/>
            <a:ext cx="949320" cy="1371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81480" y="4572000"/>
            <a:ext cx="1447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981080" y="5562720"/>
            <a:ext cx="45720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0AA24-E5CB-480C-8DE6-9AC382E8891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 a System to Qualify and Select Vend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criteria for supplies and services to be purch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information from other labora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valuate before purchase and after rece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8A93A-A0AF-478F-8F06-B90950F0113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chasing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4267080"/>
            <a:ext cx="198108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ymen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s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62720" y="3733920"/>
            <a:ext cx="3352680" cy="274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57200" y="1143000"/>
            <a:ext cx="5409720" cy="2941920"/>
            <a:chOff x="457200" y="1143000"/>
            <a:chExt cx="5409720" cy="2941920"/>
          </a:xfrm>
        </p:grpSpPr>
        <p:cxnSp>
          <p:nvCxnSpPr>
            <p:cNvPr id="241" name="_s182282"/>
            <p:cNvCxnSpPr/>
            <p:nvPr/>
          </p:nvCxnSpPr>
          <p:spPr>
            <a:xfrm rot="10800000">
              <a:off x="3198960" y="2272680"/>
              <a:ext cx="387000" cy="11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2" name="_s182283"/>
            <p:cNvCxnSpPr/>
            <p:nvPr/>
          </p:nvCxnSpPr>
          <p:spPr>
            <a:xfrm flipV="1">
              <a:off x="2818440" y="2665080"/>
              <a:ext cx="387000" cy="118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3" name="_s182284"/>
            <p:cNvSpPr/>
            <p:nvPr/>
          </p:nvSpPr>
          <p:spPr>
            <a:xfrm>
              <a:off x="457200" y="1143000"/>
              <a:ext cx="540972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82285"/>
            <p:cNvSpPr/>
            <p:nvPr/>
          </p:nvSpPr>
          <p:spPr>
            <a:xfrm>
              <a:off x="531720" y="2896560"/>
              <a:ext cx="232128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Negotiate pr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182286"/>
            <p:cNvSpPr/>
            <p:nvPr/>
          </p:nvSpPr>
          <p:spPr>
            <a:xfrm>
              <a:off x="3505320" y="2665440"/>
              <a:ext cx="231840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eview </a:t>
              </a:r>
              <a:br>
                <a:rPr sz="2000"/>
              </a:b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Contrac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334120" y="3581280"/>
            <a:ext cx="990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38098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1219320"/>
            <a:ext cx="4794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Understand government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4114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04920" y="380988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1218960" cy="11286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6400800" y="47242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5638680" y="38862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re reliabl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ility,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BA7CC-E7DE-4718-B68F-A310952318D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33Z</dcterms:modified>
  <cp:revision>109</cp:revision>
  <dc:subject/>
  <dc:title>Slide 1</dc:title>
</cp:coreProperties>
</file>